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24A9-7C81-4029-BA81-BFF9284EE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D1EE-427C-488A-AA0A-ADD5C8A1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FE24-BCA8-4551-8E8D-7F5D13EA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DE28-E570-47BE-8FE2-8607ECE4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1FAE-6CDB-4EF0-88BA-F422DEB8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4A43-5ECD-4659-A1A0-A76AA88E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0FCD-A27D-45CA-BE29-9F07E474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5B9E-98ED-45FE-ADD8-FB9A9584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6B1-33E9-4EB6-A9C2-F69DDA7B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0520-C28A-450D-8BE8-2ABBBC1A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5E83-E2F5-4942-9A95-B41452FF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AA55-4554-4330-B504-790394AE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E314-6B07-485E-9DE5-205F4396A2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Me llamo __________ Clase 6 NH (602)</a:t>
            </a: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La fecha es el 5 de noviembre del 2012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a219"/>
                </a:solidFill>
                <a:latin typeface="Arial"/>
              </a:rPr>
              <a:t>Proposito 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¿Cual es la diferencia entre Halloween y El dia de los muert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a219"/>
                </a:solidFill>
                <a:latin typeface="Arial"/>
              </a:rPr>
              <a:t>Activida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rar las presentaciones de PowerPoint y tomar notas activas en el cuader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er el articul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 muralismo mexican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ezar el PROYECTO 1: MI CALA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a219"/>
                </a:solidFill>
                <a:latin typeface="Arial"/>
              </a:rPr>
              <a:t>Tarea 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inar el projecto; entrega el mierco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38:15Z</dcterms:created>
  <dc:creator>Helen Zumaeta</dc:creator>
  <dc:description/>
  <dc:language>en-US</dc:language>
  <cp:lastModifiedBy>Helen Zumaeta</cp:lastModifiedBy>
  <dcterms:modified xsi:type="dcterms:W3CDTF">2012-11-02T19:39:35Z</dcterms:modified>
  <cp:revision>6</cp:revision>
  <dc:subject/>
  <dc:title>Me llamo __________ Clase 6 NH La fecha es el 2 de noviembre del 2011</dc:title>
</cp:coreProperties>
</file>